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24D-0FCF-47E2-AC26-BE8BE86C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85B-21E8-4113-AF6E-AC801E0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CFDB-A0A7-487F-B02F-EE513206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771EA-22B3-4DCE-A86B-B6422117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E834-7652-4857-BF25-97ABE78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E1D9B-B45D-4028-9A93-CDFAA38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93F1-6AC6-4127-B8A1-61ED369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DE56A-47D2-4EB6-B28F-01FBDAA9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AB6DB-6C0C-47E7-9ED0-0C38DEE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CB552-E5CA-409D-8105-A198BEA8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1D79-083E-4C27-9A5A-EE30A8E5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02189-4663-49E5-B6B3-649F670D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294-7F9E-4F98-9D47-628C04A6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6946D-3C8A-4AF8-BB82-E899F2E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BEDF0-0BB6-45FF-930C-C85A6DF6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F724C-FDBA-4A17-8855-F040995F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EBD8A-8A13-4568-93DD-CC82EDA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15B39-6D70-4C8C-9110-256E595D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F8E41-5876-409A-A228-01E8256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72EB9-B52E-4907-9C7C-C10A03F7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765D6-176B-4913-9D75-9E731E0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357E2-96BB-4EB5-9C10-1622184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B6584-114F-4AEA-BE3D-7A039E9E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24-17E2-4597-B5FB-6B301839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809E9-F50F-4152-92CE-B641763C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30096-C464-4F29-921A-476578DD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29576-3752-4103-A005-F7287387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3BE0-983B-445C-93C0-9BBD0A98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A11E-EC26-4ACA-87E4-560CC9A8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338A1-7953-4D83-9069-C662A51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17B9E-7C7B-47FC-BC50-9E64F61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EA7D3-BE8A-4697-BCBE-321B26D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392F-8062-476E-9B86-3701ED61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A743F-70C5-451A-9FAB-62CB235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A46-E810-4D71-9141-155AC810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D5DB1-AEF7-4762-B810-31434C5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13A90-8A1F-4587-9083-F9CF2A20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E6BDC-89CB-4B2C-A775-E683975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2EAAE-AB4B-4041-BC96-AAA2BF46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F028E-496D-40CC-865D-E064A53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BC166-70B5-407A-987C-F1A2A0A1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755CD-A74D-4F0E-88FA-D706C6D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24A9B-5A4B-4089-9B07-5D4DA95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093D3-3EB9-43A9-AACC-9F9FED44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CC3CB-0113-4835-9E62-EA10E7D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DC3-BE06-456B-8191-45DC716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2F565-8119-4F84-9F19-3B2F0B87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B5E5-8655-49EC-AE98-CE5D547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6FCC9-ED43-41DC-9E22-284F69A1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FCC84-AD8C-4EA9-9892-A9F10F9D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E809D-8B71-4CD6-B15D-101B553C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334F9-82A3-4421-B710-B2BA152D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EE5B7-F20C-42FA-936E-08519FD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1C095-8821-47D3-A6BE-266FB2C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87E07-2079-422B-9451-1C719FC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A608B-8506-4812-B3FB-2BFACABC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62C2-158E-437B-AC8E-9C35DB8B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38AE3-F087-4B3A-ABDA-A1CEA10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22C07-0436-4C05-9CAD-CA26562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D667E-60B8-4861-9FDE-8630FC8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BA521-E7B1-40F2-ACD4-3423F65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E6F54-5ACC-4757-8F6D-1968784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600B6-587B-4F36-BE15-312B575A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EE3DA-31D9-4F92-A51D-D5A7EED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FF163-5A03-43A2-8460-9E42219B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7C8B8-9C02-482A-87C5-8CA5423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92025-9707-41A3-BD96-42053D9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38D5-DA7E-41BF-A82D-A4646072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2770D-C2CB-41A7-985B-FA52730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C1E5-ACBE-4FF5-8B32-34B5EAAB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6E10B-A5B3-4E59-A468-4E69922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41B9D-3EF3-46A2-B05E-59DD52D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F03B8-A8B7-4869-AD8E-8214611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AEF66-15F6-4B0F-83D7-FAF02E3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47A16-967F-4ECA-88B5-EDC8C46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75DF4-ECBF-4CC8-BD0E-4946CB7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49B49-F700-4C00-8D5F-A01B6CC6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7C3F5-45B9-406E-9DB4-58761F9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A3A-BCE5-4562-BF69-6C855C5B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580DA-9DBA-4FD4-A1B5-E950DD4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619D6-6F6A-4849-8E83-7B20C1F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79EE6-383E-4504-8330-A07237B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5E5F3-DB2D-45CC-97BC-BC7FAEB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D8A2C-08D9-4B03-8A47-7BAD3AF6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D583F-3661-4572-9E82-A38F5BF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18879-736D-4C9F-8E8F-2CE0122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B5261-38BA-48F8-938A-ABE7E0B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A7DB0-41B7-44E7-B424-525122B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966EA-68BA-4F4E-9643-72494105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5DC-4F9A-4466-8930-5EA3974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110B0-97CA-4F94-8E6E-3ECA8C24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86D58-8057-439C-AEAE-0C463F9D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9F6FE-6F9D-4F3B-9AB8-B60622C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8000A-BE4C-4DC4-9A1E-6E7C6C2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BED7B-D2A4-44EE-8C92-7D354E7D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B6006-4ABB-43C9-AE06-5299740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2F16F-864B-46F4-81FE-E01A032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9615E-E167-4FEC-B541-55761F3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75BB5-59E6-4A59-A4CF-89589B6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507C4-9A58-4DA9-839E-5050E78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399-FEEE-4148-B08F-3511E7F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EC357-DC31-49E2-BDDC-CDEADE68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02376-3F74-4BB6-A724-DB304475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1DDA7-6834-46F6-A1CE-9D2F1B34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883A8-8704-4925-ADB4-E13FFBE0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B9334-6B95-4D64-8094-87ED0B4D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8E169-8187-4E52-86A8-0D65E08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DD1EF-C73A-4834-B472-DC060D69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971C7-4F61-4857-9493-219F0163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F69AD-2B1D-4AE9-996E-917DFEA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77DE1-EE7A-49CD-B862-4006B50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FF8-CC3C-40E6-9025-1202AC0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945-B772-4E54-B359-80C7991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14A45-C72B-4F82-A0FC-7A00ED7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BCE83-E3A7-40AF-B6AB-31593A8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8D602-17DE-4844-8BE8-9121688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26B4D-8AF1-4CD8-8C7E-FD09A484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4EC78-2346-459F-BB7A-A3BC5FF1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DA996-F7DA-40A8-B21A-7B3863AE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40062-299E-4F92-B637-78F7C2C4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A76E6-F9BD-4DA7-BC78-2503994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C9398-8625-46FC-A834-8A6CA71C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330F7-5ED0-4BF5-BF58-EA6DA67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A9D0-7F87-4F6B-A308-46C47B8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FF7E5-E3A1-4CEA-A4EB-BDFD4AC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08BD6-7F03-4C63-9F46-1F1A6514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5C486-38A6-4E29-9AF0-5539D78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5C83F-946B-4A11-8EE7-0B47EB4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7AA7C-A16C-4134-9DEA-3F6635C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9CA40-7DD3-46BB-A643-1D04F9A3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20272-82D6-465F-897B-3909C3C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75E8B-7B59-48F5-AA92-3163CC37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7CA81-3141-4373-988E-1CBBCE3F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A32AA-5A50-4BBC-9674-F2DE518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8FB-1CC1-48BE-B04B-9AC1D72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B5E2C-E902-4720-AC6A-BF2E8AD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BC5DD-6835-43B5-8188-57EB269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5D126-5719-4E28-8EA1-B20AB3A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B1720-881A-47C0-9D84-7740E31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B1A37-EA6B-4DE3-89F8-AD40BE1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F291E-9BB5-44D5-A595-3872629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316F3-D39F-444B-9FB0-8D68F33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D70F7-30BA-4840-A22E-F297ECE3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734ADB-A977-478A-AEAC-0A0CFE69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758B7-5DDB-44DF-8A1C-560C7F7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691C-E9F2-40B8-9572-000077D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0D136-75BC-4777-A742-7B48A41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8B17B-A26C-441A-B256-DF0A7B36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B51CB-A67F-4730-A87E-FF7706C8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E5FCB-5551-42FA-A543-80453D81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D9F90-B208-444D-8092-18D069A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F3633-6C3A-41B2-B74E-3B84235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45091-EEB2-4824-B385-87CC72B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E5054-F55E-4D9E-A1B3-5314B4A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B1301-3743-4229-87A1-F40A003B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4DD1E-56AE-4B09-932B-9AEAED3B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7F85-06C4-4931-B726-1E55A35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69070-E912-4B11-9E5D-448098F1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9B021-D12B-40DD-B4A9-7E17DC73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50880-5B79-46D0-BE2A-FEE7105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A7A81-1F2D-4410-84B0-1B26916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7C0DC-0763-45F5-880A-54101F2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F0489-6DE0-4FAC-BA17-66D5729F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44E87-84CD-4561-89F7-BB9DAC5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8EE98-3310-4DF5-8B92-65A8BAB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55159-B1F4-479B-84DB-AF8FF17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56374-DFB8-44F9-AA8B-4F44886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0407-B844-4F25-9377-AB6E67FF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75A2D-2712-4D65-8003-99A8EEB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FD771-B1D5-4939-A288-181D06C2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63FBC-F436-4CD5-ACB8-EE9EA9B2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F598-2D91-4A93-B39B-CD06372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9D60-EEF8-4D88-BB29-7BB047C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28A9-40E4-4AE1-AEEF-80F7A7A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7DC3-654B-4C8F-A337-35BAF62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372-E788-489F-9009-00E538A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8FFF-C8D2-4CE8-831D-7C7EC96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848F-77CA-404C-BB6D-8DC99BA5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EDD4-F90A-4B0A-93A0-362940D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7788-1CEF-4FC7-99AD-E9C497E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537D-4A3F-4CC5-8E56-C06CD2A5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FDAC-FC2A-478C-BC07-D9321F78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A9DD-2E89-44E9-BE07-744903EA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57EE-834F-425E-B6F1-3BE4FC81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4981-C5BE-45F7-8E88-A06AE8C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7BB6-D55C-48EA-8CC2-47EDF6D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64E-C2A5-4CF0-837F-A12D8AF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0C10-A7A8-48A7-A353-DA1EE38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9BD8-06B3-46EB-BB4E-DF033B93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0771-B205-42FF-B134-6E4D1336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2CE6-30D3-4E56-90B9-D691589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8597-2B80-4272-A478-FFB54F8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55C0-C29D-49EA-B320-2D1476D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3FD1-B2F3-4A0F-85FA-E7F9557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38B8-5FEB-46EB-8DF8-935A7FCA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A947-7610-448F-95D1-36C1BAAE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17C9-1DAE-4ECD-80C4-69F953D4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7AF-EFBF-4129-AB07-8DCFB89A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18ED-67A3-4100-BA02-050FC65E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24A7-C828-4BEE-8F21-6A71BAD7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CB739-D1CD-4D32-83BE-FB1F106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4760-1842-457D-BF64-2CCC24DF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FE33-61AC-4564-AE21-79DE708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ECF7-1875-4901-8596-B303082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C2EAE-B787-4735-91CC-D944214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F96A-BDBC-4385-B20D-27803DA5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41F9-210F-4BF3-A6DC-0A1DA76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E255-F1E7-455A-A0EB-420CFC7F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66C-3CAC-46DA-AD12-5D970AB0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49CB-0DAD-4FF7-8237-30A140AF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1FE4-297A-44B2-84D2-D8849A4C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140A-A478-4726-8EFC-A184D89C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1FFE-4654-42FD-9B72-9D7B717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BCCC-3C98-408C-ADC0-AFF62FC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F23C-80FC-49FA-B6BA-198FE6B0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0EDF9-28C0-4458-ABAE-0588D547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C12F5-3221-46D0-98F4-F601FB08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7B3E-6398-45C9-8AB5-FC8B5AE2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A38FD-BB6A-455E-9BF3-3502C4A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06A-85BE-413C-913B-DFB87B6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BA8A7-D296-4292-9487-9E728952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D0AC-F646-4B14-ACBB-5AAFA4F8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45B3-EDAA-4DB3-BB8D-1515E1F4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1C209-7CCC-4BD7-877A-D3B373C3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B185F-5192-400C-B5B5-B4D246A0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474E9-71C3-4D0A-BA3F-8E5ACF86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FE22-A272-4CBC-9BEF-E252A26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4E388-5977-43AE-8CE6-984B2706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BC7C-D21F-43C0-9F67-5C47A860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AA11-3E06-4759-AFD2-730862D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A6B-E76E-4B66-9827-91DA8C7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9FBD1-BE55-4DEF-91C0-9996C47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C785-FD9D-413F-B82A-110910D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179EE-2249-4CEA-B93F-440DF98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B6A8-3F04-4DDD-B8AA-429EA56F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1743-D38A-4ED8-B38C-F36A0EA0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533C-6EDF-4D99-A06A-3057B66E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EDD91-97E2-4C4F-857C-9B07710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4643-C2AF-45BC-899F-ADC6FA24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F31E9-169E-4CA5-9430-91C0CB19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67C1-61B3-427B-AC1B-E55DC599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948-C3A1-476D-906E-E7B7276E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BB2CF-4683-4AE0-AFD7-AD0E3D6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B0C9C-E35D-447C-9806-F89DD45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D8F35-9D74-4FE1-8EDA-F6C04B9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CEBF4-C362-46AD-A5DC-69ECB5F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E6B1-5FCA-488F-852F-78C379C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9D360-8D67-41F8-881E-4CADCEB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A756-3ADA-4120-9F6F-093B23DA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14CAF-64D5-4D6F-B61F-5D06853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3B92-D74E-43B8-9774-D476FFF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416F6-AFA6-4700-8D7E-D2D59F2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2B07-D90F-45EE-BF92-204E7CB24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846-4D63-43B0-B7FE-C87E19315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A7C-42E7-4C02-8E8C-90CE77272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4E3D-A912-4DC6-879C-B7F61913B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8DF-3196-46EB-A6D6-B10130670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12E-84B1-41D7-A392-5930B2A1E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5D6-03E3-47FF-A700-17E305C26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8A77-DA7B-4B9D-B4F9-4AD317290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27E-9282-476B-A57F-1CF7FBE76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010-2D51-4E0B-B2D3-9EA72C32D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839-0DC6-46AB-8339-AE476138C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658-92AE-451F-ABBC-EFEE7D75F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0667-8915-4B27-AB4B-8AA63491D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514-94A5-419E-9C06-6D93BB901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A22-57B8-4954-96A5-59B060DFE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0CA-BA7E-427B-A36E-234133ADAF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9E1C-D2B4-4169-8F26-4F2D3DB43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A5A-C150-4594-BA45-EFFEC5BAB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6163-9572-4845-8F1E-84BD24A38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807-7646-4E55-86AE-07EA59400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3D2-54BB-472A-A1E4-6D236E07B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2F78-C309-4810-8035-F70EBCBF7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F2D-ED07-4EF7-AE40-7952D40B3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39E-80AE-4EEF-B929-A830D543C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AE39-637A-48C8-8F96-D95904993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3158-B85C-4093-8DA6-2696C8E2A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8D24-57A3-4512-9B84-5901DB39D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029-3437-4D2A-996B-69B61845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2053-E8C7-4D5E-94A2-66FE3E276E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F239-60E2-49A1-AAA5-AE0BDA226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DE6-37D1-4EC1-ABCB-A220EF806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4AC-098A-4BBA-A238-DFB8C2FAE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505-4FF5-40CC-BD71-19AE8389C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47DF-B3D7-4BC1-A85C-56B03EC22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C844-19CB-4F1E-ACDF-8164A352A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60C-A192-4682-BAEA-70BB1C8FE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00E-E946-42D2-AF51-6EBF185B3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D26-8D06-4887-B974-5EE781FD9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BDD-26D9-42B7-A165-E429DD5F2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6BE-2C8E-41B1-82E7-4EE7178C0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62360" y="3067200"/>
            <a:ext cx="34192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52520" y="1057320"/>
            <a:ext cx="8238960" cy="474336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571680" y="1571760"/>
            <a:ext cx="8072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511200" y="2035080"/>
            <a:ext cx="807228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557280" y="2475000"/>
            <a:ext cx="807228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500040" y="2928960"/>
            <a:ext cx="807264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365040" y="3375000"/>
            <a:ext cx="827892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357120" y="3857760"/>
            <a:ext cx="841536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357120" y="4286160"/>
            <a:ext cx="8072640" cy="400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522360" y="4764240"/>
            <a:ext cx="807228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"/>
          <p:cNvSpPr/>
          <p:nvPr/>
        </p:nvSpPr>
        <p:spPr>
          <a:xfrm>
            <a:off x="357120" y="5249880"/>
            <a:ext cx="1785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14440" y="1314360"/>
            <a:ext cx="8115120" cy="42292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4143240" y="328608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5511960" y="3249720"/>
            <a:ext cx="785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000160" y="464328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3429000" y="4643280"/>
            <a:ext cx="78588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7429680" y="4643280"/>
            <a:ext cx="78552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2286000" y="5143680"/>
            <a:ext cx="78588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0040" y="2266920"/>
            <a:ext cx="8143920" cy="23241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2746440" y="277164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4000680" y="274968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4857840" y="3643200"/>
            <a:ext cx="128592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6572160" y="364320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7786800" y="364320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1214280" y="41068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42800" y="1800360"/>
            <a:ext cx="8258400" cy="325728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214280" y="2714760"/>
            <a:ext cx="4572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1214280" y="3643200"/>
            <a:ext cx="557244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1214280" y="4500720"/>
            <a:ext cx="6072480" cy="436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67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343720" cy="24192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571680" y="3143160"/>
            <a:ext cx="8134200" cy="32576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3"/>
          <p:cNvSpPr/>
          <p:nvPr/>
        </p:nvSpPr>
        <p:spPr>
          <a:xfrm>
            <a:off x="5064120" y="1714680"/>
            <a:ext cx="1954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1071720" y="2643120"/>
            <a:ext cx="2786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"/>
          <p:cNvSpPr/>
          <p:nvPr/>
        </p:nvSpPr>
        <p:spPr>
          <a:xfrm>
            <a:off x="1071720" y="3143160"/>
            <a:ext cx="178596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6"/>
          <p:cNvSpPr/>
          <p:nvPr/>
        </p:nvSpPr>
        <p:spPr>
          <a:xfrm>
            <a:off x="7358040" y="3643200"/>
            <a:ext cx="13572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"/>
          <p:cNvSpPr/>
          <p:nvPr/>
        </p:nvSpPr>
        <p:spPr>
          <a:xfrm>
            <a:off x="642960" y="4071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"/>
          <p:cNvSpPr/>
          <p:nvPr/>
        </p:nvSpPr>
        <p:spPr>
          <a:xfrm>
            <a:off x="1189080" y="4535640"/>
            <a:ext cx="1928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9"/>
          <p:cNvSpPr/>
          <p:nvPr/>
        </p:nvSpPr>
        <p:spPr>
          <a:xfrm>
            <a:off x="1892160" y="545148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0"/>
          <p:cNvSpPr/>
          <p:nvPr/>
        </p:nvSpPr>
        <p:spPr>
          <a:xfrm>
            <a:off x="1071720" y="5929200"/>
            <a:ext cx="2071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20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457200" y="1357200"/>
            <a:ext cx="8229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80960" y="1800360"/>
            <a:ext cx="81820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0:4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